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896-734C-45B1-BE73-686E36BA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EFF-FB93-4F12-BA3C-A4920BF5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1D5-FE7E-4DD0-A68D-5685A28C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E9B-88A6-4137-AF49-72CFCF4B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5B00-324C-4425-A024-2AA059B0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2D13-4E50-4E55-8E17-C9753B7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E6D1-EE6F-400C-8AD3-219A60E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4C0-65FE-4E21-BE46-7FE9F71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C568-EF9D-4F60-8DD3-967ABB20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5C40-2B09-4045-BDE6-00E3727F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DB5-B5A6-4401-A56D-1E31AFF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305-B32F-4EA4-A3E2-F90BDEC1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26E8-CACF-48E4-B2DE-E8E9424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9585-C01F-4278-9738-52DEB6C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C481-ACED-455B-B274-FA143559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A6EE-7E9B-4F8F-8E92-8E963529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70CB-546E-4E28-B9F5-5BF784A3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68A-840D-45F8-9605-0F98A72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52D-A528-446D-AFD2-7C5C7352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9AE-90D0-4423-B132-02F63064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FC2-3509-4C2D-8986-127A897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54F-642B-4921-A195-805B402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8DE-8C3E-4370-8DC9-E42E07C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2D5-6C07-48DB-9A21-9AC3419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24B1-2790-4C2B-9148-7E513A8561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D67-523C-4D46-934E-4E5CF07899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WZAJEMNE POŁOŻENIE PROSTYCH.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DCINKI PROSTOPADŁE, PROSTE PROSTOPADŁ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EŚLENIE PROSTYCH PROSTOPAD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2682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ysujemy prostą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62864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Do narysowanej prostej przykładamy ekierk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989000"/>
            <a:ext cx="561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Rysujemy prostą n przy drugim boku ekier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3493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Przedłużamy linijką prostą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870440"/>
            <a:ext cx="655164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51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03640" y="3357720"/>
            <a:ext cx="1800000" cy="1512720"/>
            <a:chOff x="3203640" y="3357720"/>
            <a:chExt cx="1800000" cy="1512720"/>
          </a:xfrm>
        </p:grpSpPr>
        <p:sp>
          <p:nvSpPr>
            <p:cNvPr id="103" name=""/>
            <p:cNvSpPr/>
            <p:nvPr/>
          </p:nvSpPr>
          <p:spPr>
            <a:xfrm flipH="1">
              <a:off x="3850920" y="3934080"/>
              <a:ext cx="865080" cy="7189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203640" y="3357720"/>
              <a:ext cx="1800000" cy="15127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021280" y="2935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6640" y="2935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1280" y="4870440"/>
            <a:ext cx="0" cy="898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708280"/>
            <a:ext cx="372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5. Końcowy rysun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85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jest prostopadła do prostej k, co zapisujemy symbolicznie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ZAPAMIĘTAĆ NAZWĘ „PROSTOPADŁA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1640" y="3564000"/>
            <a:ext cx="40053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37000" y="3244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62280" y="1630440"/>
            <a:ext cx="0" cy="1935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17640" y="1630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2280" y="3565440"/>
            <a:ext cx="9360" cy="21132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11640" y="2124000"/>
            <a:ext cx="35100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ły sobie dwie pros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tóre cały dzień skak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k, że „nogi” ich bol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 zaba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erwsza stał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r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uga ze zmęczenia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sto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ad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DCINKI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608280"/>
            <a:ext cx="368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1808280"/>
            <a:ext cx="0" cy="35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7360" y="3608280"/>
            <a:ext cx="2340000" cy="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550960"/>
            <a:ext cx="0" cy="2205360"/>
          </a:xfrm>
          <a:prstGeom prst="line">
            <a:avLst/>
          </a:prstGeom>
          <a:ln w="2232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6280" y="36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360828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39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459900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2360" y="1854360"/>
            <a:ext cx="351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a odcinki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dy leżą na prostych prostopadł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57720" y="3789360"/>
            <a:ext cx="34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cinek LN je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o odcinka MK, co symbolicznie zapisujemy: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6600ff"/>
                </a:solidFill>
                <a:latin typeface="Symbol"/>
                <a:ea typeface="Symbol"/>
              </a:rPr>
              <a:t>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11:02Z</dcterms:modified>
  <cp:revision>7</cp:revision>
  <dc:subject/>
  <dc:title>Slajd 1</dc:title>
</cp:coreProperties>
</file>